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17375"/>
        <c:axId val="24063678"/>
      </c:barChart>
      <c:catAx>
        <c:axId val="44617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63678"/>
        <c:crosses val="autoZero"/>
        <c:auto val="1"/>
        <c:lblAlgn val="ctr"/>
        <c:lblOffset val="100"/>
        <c:noMultiLvlLbl val="0"/>
      </c:catAx>
      <c:valAx>
        <c:axId val="24063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17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0DFC-6CFE-4EE8-8562-EFB63634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4F8-F937-4657-A557-09C7138F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C82-7E05-47B6-A0E8-FAA6B71E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39C0-F468-48E9-8AB4-0334EA13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FA2B-8E0A-4959-8724-9DEAD0F9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9B7-C96C-4EF4-9B65-47771750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414A-BA25-421C-99F5-56921286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F898-9C4E-44E7-B3EA-A6627DE6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B08B-E0DC-491F-8EC9-BD33278A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8909-82DF-4AE0-8237-F767A75A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658-149A-4E69-A138-C4A97AD7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860E-4014-4110-8FA2-FB0F0E8D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FA1A4-66D3-4319-8D67-CF1E38DDA7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