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09243"/>
        <c:axId val="77285857"/>
      </c:barChart>
      <c:catAx>
        <c:axId val="44709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85857"/>
        <c:crosses val="autoZero"/>
        <c:auto val="1"/>
        <c:lblAlgn val="ctr"/>
        <c:lblOffset val="100"/>
        <c:noMultiLvlLbl val="0"/>
      </c:catAx>
      <c:valAx>
        <c:axId val="77285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09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AC4-5047-4A9E-AC6F-A39CDDCD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5C40-0683-43E7-A4D8-CF1898F4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662-4691-4E07-871B-59998E63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242-A7C3-4B74-A724-A077C16C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89E-1C5C-42F6-A63C-D7560DF3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E8F0-32AB-4810-AB0A-4E7D4681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E6A4-8918-4441-BE70-D6FFD6A6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216-E084-4ECF-BCE1-A6847517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C13-5E4C-4909-970D-0127B414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E0C-199A-41DD-B342-FFF68013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B981-F5E1-4ACC-AE31-E4649526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DDA-8451-4E75-AA01-FE4C7B48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09D76-06EE-44C8-9253-0FC5C92CE2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