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98990"/>
        <c:axId val="82006823"/>
      </c:barChart>
      <c:catAx>
        <c:axId val="63698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06823"/>
        <c:crosses val="autoZero"/>
        <c:auto val="1"/>
        <c:lblAlgn val="ctr"/>
        <c:lblOffset val="100"/>
        <c:noMultiLvlLbl val="0"/>
      </c:catAx>
      <c:valAx>
        <c:axId val="82006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98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F05-5D12-46AD-9D50-ED8DB41D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D49-20B1-4C12-85B4-BCFB1B12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FFA-0853-4B3D-8E31-FEED6DBC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700-991F-4D75-A213-631C6976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520-FFA4-41CF-92EF-49A8B672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8A6-8BC8-48ED-885A-8215019E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12B-561B-437C-BF41-A477E71C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55E-8A5A-40E1-A5BD-875FA3D8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341-6E13-4958-9F82-6DA4B186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F20-480C-4CD2-ABF9-B20B06AC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05C-F512-449B-B52B-41C2B3DE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D33-9F20-4CCB-81F7-BE8A0C86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7E031-43DB-4610-B1F2-8F644C8FAD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