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667975"/>
        <c:axId val="70446415"/>
      </c:barChart>
      <c:catAx>
        <c:axId val="686679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46415"/>
        <c:crosses val="autoZero"/>
        <c:auto val="1"/>
        <c:lblAlgn val="ctr"/>
        <c:lblOffset val="100"/>
        <c:noMultiLvlLbl val="0"/>
      </c:catAx>
      <c:valAx>
        <c:axId val="70446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679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0E23-FC08-4239-96B0-EC4104D8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6467-33A0-45F5-943B-CAC1AB02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9523-15A7-4E0B-B9C0-3105FE35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8913-740B-4C9C-917C-AAD87E1F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9C83-864B-43FA-9092-29A74AB1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7A30-B32A-41FD-BBB4-55C52B01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FECB-376C-4C88-B504-2C6687F4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D20A-95DA-4CA4-AD9F-8D31AA4C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164D-967C-48D6-B2CB-6F383A03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DEB3-9A9E-451B-BE85-5819279D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1A06-21B5-4056-A885-9B2F2DEF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E12E-57D0-43F9-856F-A044103F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30831-34D2-4565-9F19-6C3FBB3BF6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