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04391"/>
        <c:axId val="1396923"/>
      </c:barChart>
      <c:catAx>
        <c:axId val="67404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6923"/>
        <c:crosses val="autoZero"/>
        <c:auto val="1"/>
        <c:lblAlgn val="ctr"/>
        <c:lblOffset val="100"/>
        <c:noMultiLvlLbl val="0"/>
      </c:catAx>
      <c:valAx>
        <c:axId val="1396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04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29F-66BD-4837-8EA6-0B485B0B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B4D-65EC-4765-A269-6797766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F25-58C2-48E7-9509-EE8752A9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2E9-A3EC-4056-9D63-1D59A5D0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E9B-718C-4037-995F-E3E2FE00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012-5C6F-4CF6-8E3E-945B66FA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3F0-F8D9-4E33-A631-3EB75C0F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CF6-B2D5-4098-8F7A-54B50779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22E-A958-4FE9-85CF-C301351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DEA-ADDA-417A-90E8-BC7CAC15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879-3921-46B9-93F5-18B26FB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AC3-C4FA-4F2B-AD18-8BA82F3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0F822-7793-48A4-8286-33EEF4C2D0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