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84761"/>
        <c:axId val="39931561"/>
      </c:barChart>
      <c:catAx>
        <c:axId val="415847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31561"/>
        <c:crosses val="autoZero"/>
        <c:auto val="1"/>
        <c:lblAlgn val="ctr"/>
        <c:lblOffset val="100"/>
        <c:noMultiLvlLbl val="0"/>
      </c:catAx>
      <c:valAx>
        <c:axId val="39931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847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5102-EDA9-4B92-B934-0D519089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6BD-05C8-47C7-B9C1-A420EAE5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8AEA-1315-45DE-AE8F-3C7F30C0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DB2-460D-43C8-966A-9A0F1F09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2287-8AA3-4AFB-9F4D-2D8E483E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A6B-59F1-49F1-A58D-166BDDBC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75DD-6865-4F96-88B8-4E4DA000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0542-3667-4F28-98A1-94E4F464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11B3-945A-482D-8E2B-0D1583D6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8E1F-5627-4B04-92E6-F2C85265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E16-5D5D-4E2E-95A8-0079CB5F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A39-405F-41F2-B0E3-028E6445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B8811-EFCE-422F-BAFE-CF879734E0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