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4109"/>
        <c:axId val="8225413"/>
      </c:barChart>
      <c:catAx>
        <c:axId val="5784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5413"/>
        <c:crosses val="autoZero"/>
        <c:auto val="1"/>
        <c:lblAlgn val="ctr"/>
        <c:lblOffset val="100"/>
        <c:noMultiLvlLbl val="0"/>
      </c:catAx>
      <c:valAx>
        <c:axId val="8225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4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B89-FF33-4D74-8C3A-93EB42BA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E9E-717E-43D4-AE50-FC083B2F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C0F-C72E-4719-ABC1-C636863B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203-05BD-426D-9DAC-34A2C539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A82-BF0B-4ED9-A8B9-048AD962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792-F36D-4050-A7E1-037DF63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D63-5F90-44AE-9F07-A6F14BF3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FA8-1035-4697-98B8-2605C1E0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95F-83F3-466C-A0FE-DCE44099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4AE-0990-4D49-8D77-DCA2FE0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8CB-8F80-4BE1-A464-56D8721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1EB-14DD-4A8B-8F1A-D907314C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4767F-E97E-48F0-9FC5-8EBBF77471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